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836-3D1A-438E-BE1E-3E5A2078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2B8-4D5E-4D31-9627-5F5B5955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4A8-ECED-41D4-BA78-3A1C7DD6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551-0166-42DB-91C4-4878588C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BFC-F07F-4EE4-80BA-B38578DD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B04-EA0D-4B8C-9C63-3E23FA7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7FE-4A1A-456B-87EE-1599BCD4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3E5-35F1-4FD0-8A9F-5D6D935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BE8-5920-4308-8785-54716285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D29-BF4A-4933-9671-43A1105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D47-92E3-4B23-9EC8-1E76539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8FB-C580-4DF6-AB6D-45F6C1F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DABB-ACEF-45A4-8239-59FA676D9F5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National Park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Dartmoor, Bri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artmoor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is one of the 12 designated National Parks in England and Wal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but two (the Broads and the New Forest) were set up after the "National parks and Access to the Countryside Act" was passed in 194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They had two main aims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preserve and enhance the natural beauty of the are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promote the enjoyment of the area by the general public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peakdistrict-nationalpark.info/_images/_maps/nationalParksMap.gif"/>
          <p:cNvPicPr/>
          <p:nvPr/>
        </p:nvPicPr>
        <p:blipFill>
          <a:blip r:embed="rId1"/>
          <a:stretch/>
        </p:blipFill>
        <p:spPr>
          <a:xfrm>
            <a:off x="1835280" y="95400"/>
            <a:ext cx="525780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flict In 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nce their designation, National Parks have been the subject of conflicting uses, which has only been increased by the rising numbers of tourists who visit the area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part from the tourists, other people who have an interest in the parks include local farmers, local residents, the Army, the Forestry Commission, the National Trust and the Water Boar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artmoor is an example of a national park where many of these users have some into conflic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dvantages And 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rtmoor plays host to over 8 million visitors every ye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erms of some of the other National Parks, such as the Lake District or the Peak District, this is a relatively small number but it still has brought its fair share of advantages and disadvantag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these visitors come to walk or mountain bike on the moor, look around the picturesque villages or use the reservoirs for water spor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rmers use the moor for grazing their sheep, and quickly get very annoyed when they have flocks disturbed by dogs let loose by their owners out for a wal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is an army camp near Okehampton, in the north of the mo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orthern half of the moor is a military firing range, where they practice with live ammunition, both bullets and shell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viously this can cause problems for tourists unaware of the firing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flags designate the area, but there still have been times when people have found themselves in the middle of a training exerci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advantage of the military use of the moor is that it does mean that less people go to that area, and so the natural environment is protect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uge tourist numbers puts great pressures on the narrow roads found all over Dartmo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tional parks Authority has introduced car parks and information centres to try to concentrate the visitors to certain areas, whilst protecting oth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 parks also prevent the problems found in some villages of tourists parking their cars on the grassy ver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oneypot" sites, such as Hay Tor, attract a disproportionate amount of visitors, creating problems of parking, footpath erosion and litter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PA has had to try to encourage people to go to other equally spectacular tors to try to take the pressure off the Hay Tor ar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crease in recreation activities such as mountain biking, water sports and hang-gliding has put pressure on the natural resources of the are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cilities for tourists have also come under pressure as more and more people come to the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utions have been attempted, such as promoting other parts of the moor, introducing more tourist facilities and restricting where people can and cannot wal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have been reasonably successful in protecting the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0:47:41Z</dcterms:created>
  <dc:creator>Dell_02</dc:creator>
  <dc:description/>
  <dc:language>en-US</dc:language>
  <cp:lastModifiedBy>Dell_02</cp:lastModifiedBy>
  <dcterms:modified xsi:type="dcterms:W3CDTF">2011-01-27T00:56:59Z</dcterms:modified>
  <cp:revision>1</cp:revision>
  <dc:subject/>
  <dc:title>National Parks</dc:title>
</cp:coreProperties>
</file>